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8F6-1B54-4515-8B70-9537B9D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CDD-A8F3-4B0B-A861-CCC7BB22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E67-DFE7-4D61-99B9-39301E4F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90E-6237-46E6-B3B9-C6E39BE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5DC-0217-4B75-81A8-378E4293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620-9ADD-459E-AF53-CF87C64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D91-45E0-4D03-807A-910B25D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023-2842-4C43-AB57-75F7867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52A-FEAC-4C17-9756-6D8E221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0DA-D469-4FB7-B913-0135D62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52C-2E12-47E5-A740-15AC912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60C-AB8B-4661-A8AA-136EBBD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13F-089A-44E7-B47F-AEE9D350318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image" Target="../media/image31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3.jpeg"/><Relationship Id="rId4" Type="http://schemas.openxmlformats.org/officeDocument/2006/relationships/image" Target="../media/image31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1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0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56720" y="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960" y="228600"/>
            <a:ext cx="73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La Guerra Civil Españ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fich-espag3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6629400" cy="519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03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05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108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111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03520" y="1149480"/>
            <a:ext cx="573696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15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21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26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28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32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34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37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43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45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48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50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54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59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65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67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70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72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187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murieron más de un mill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de perso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9-1975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ictadura de Franco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franco1" descr=""/>
          <p:cNvPicPr/>
          <p:nvPr/>
        </p:nvPicPr>
        <p:blipFill>
          <a:blip r:embed="rId1"/>
          <a:stretch/>
        </p:blipFill>
        <p:spPr>
          <a:xfrm>
            <a:off x="2444760" y="990720"/>
            <a:ext cx="3727440" cy="541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75 – 2007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emocracia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ag2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610480" cy="5208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1-1936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Segunda República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6933960" cy="6915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01880" y="5446800"/>
            <a:ext cx="761760" cy="142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4200" y="5661000"/>
            <a:ext cx="1009440" cy="1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074600" y="-457200"/>
            <a:ext cx="5631120" cy="838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08000" y="5950080"/>
            <a:ext cx="104796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978200" y="6237360"/>
            <a:ext cx="1009440" cy="1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0" y="0"/>
            <a:ext cx="8381520" cy="7619760"/>
            <a:chOff x="0" y="0"/>
            <a:chExt cx="8381520" cy="761976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381520" cy="69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0" y="7129440"/>
              <a:ext cx="230148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0" y="7441200"/>
              <a:ext cx="124452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-380880" y="0"/>
            <a:ext cx="7314480" cy="7391160"/>
            <a:chOff x="-380880" y="0"/>
            <a:chExt cx="7314480" cy="73911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1167480" y="0"/>
              <a:ext cx="5766120" cy="73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-380880" y="6844680"/>
              <a:ext cx="1325880" cy="1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-290160" y="7100640"/>
              <a:ext cx="127692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-762120"/>
            <a:ext cx="6192720" cy="899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611280" y="6237360"/>
            <a:ext cx="1238040" cy="358560"/>
            <a:chOff x="611280" y="6237360"/>
            <a:chExt cx="1238040" cy="3585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87320" y="6237360"/>
              <a:ext cx="104796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611280" y="6453360"/>
              <a:ext cx="1238040" cy="14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-380880" y="0"/>
            <a:ext cx="8305560" cy="7314840"/>
            <a:chOff x="-380880" y="0"/>
            <a:chExt cx="8305560" cy="731484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-42480" y="0"/>
              <a:ext cx="7967160" cy="70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-380880" y="74520"/>
              <a:ext cx="168120" cy="16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-42480" y="7153560"/>
              <a:ext cx="437040" cy="16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28600" y="0"/>
            <a:ext cx="6629040" cy="6857640"/>
            <a:chOff x="228600" y="0"/>
            <a:chExt cx="6629040" cy="685764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2064600" y="0"/>
              <a:ext cx="47930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228600" y="6520320"/>
              <a:ext cx="1661040" cy="2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464760" y="6211800"/>
              <a:ext cx="1406160" cy="20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5075640" y="2877120"/>
            <a:ext cx="686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745164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2040" y="-124560"/>
            <a:ext cx="7880040" cy="7021080"/>
            <a:chOff x="302040" y="-124560"/>
            <a:chExt cx="7880040" cy="70210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 rot="820800">
              <a:off x="4678200" y="1186920"/>
              <a:ext cx="3036600" cy="43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 rot="21084000">
              <a:off x="761760" y="151920"/>
              <a:ext cx="4189320" cy="646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04640" y="241200"/>
            <a:ext cx="7255800" cy="6464160"/>
            <a:chOff x="404640" y="241200"/>
            <a:chExt cx="7255800" cy="64641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04640" y="241200"/>
              <a:ext cx="4566600" cy="64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 rot="300600">
              <a:off x="4425480" y="1815840"/>
              <a:ext cx="3041280" cy="456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panish_civil_war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62520" cy="2716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0" y="4343400"/>
            <a:ext cx="9143640" cy="2590560"/>
            <a:chOff x="0" y="4343400"/>
            <a:chExt cx="9143640" cy="25905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843920" y="4343400"/>
              <a:ext cx="3549960" cy="258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0" y="4343400"/>
              <a:ext cx="22939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4525200" y="4343400"/>
              <a:ext cx="3245760" cy="258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67440" y="4343400"/>
              <a:ext cx="15217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7494840" y="4343400"/>
              <a:ext cx="164880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1644480" y="4343400"/>
              <a:ext cx="1535760" cy="258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6340680" y="2707920"/>
            <a:ext cx="55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93600" y="-101880"/>
            <a:ext cx="7491240" cy="7024680"/>
            <a:chOff x="93600" y="-101880"/>
            <a:chExt cx="7491240" cy="702468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3537720" y="408600"/>
              <a:ext cx="4047120" cy="65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 rot="351000">
              <a:off x="380520" y="76320"/>
              <a:ext cx="3795120" cy="583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6340680" y="2707920"/>
            <a:ext cx="55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3400" y="-95760"/>
            <a:ext cx="7050600" cy="7205040"/>
            <a:chOff x="113400" y="-95760"/>
            <a:chExt cx="7050600" cy="720504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 rot="21148800">
              <a:off x="533520" y="155520"/>
              <a:ext cx="4283280" cy="67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4080960" y="671040"/>
              <a:ext cx="3083040" cy="471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e e ilust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55640" y="836640"/>
            <a:ext cx="1446120" cy="1800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11280" y="946080"/>
            <a:ext cx="430560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e e ilust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0"/>
            <a:ext cx="9448560" cy="7466760"/>
            <a:chOff x="0" y="0"/>
            <a:chExt cx="9448560" cy="746676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448560" cy="69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4"/>
            <a:stretch/>
          </p:blipFill>
          <p:spPr>
            <a:xfrm>
              <a:off x="128160" y="7252200"/>
              <a:ext cx="1117440" cy="21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5136120" y="2936520"/>
            <a:ext cx="67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literatu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57040" y="609480"/>
            <a:ext cx="7439040" cy="393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itera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324080" cy="1795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17720" y="620640"/>
            <a:ext cx="4954680" cy="5399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2190600" cy="419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3716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gobierno leg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dern No. 20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Repúbl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es-1931s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170320" cy="3426120"/>
          </a:xfrm>
          <a:prstGeom prst="rect">
            <a:avLst/>
          </a:prstGeom>
          <a:ln w="0">
            <a:noFill/>
          </a:ln>
        </p:spPr>
      </p:pic>
      <p:pic>
        <p:nvPicPr>
          <p:cNvPr id="61" name="res" descr=""/>
          <p:cNvPicPr/>
          <p:nvPr/>
        </p:nvPicPr>
        <p:blipFill>
          <a:blip r:embed="rId2"/>
          <a:stretch/>
        </p:blipFill>
        <p:spPr>
          <a:xfrm>
            <a:off x="5878440" y="1295280"/>
            <a:ext cx="2846520" cy="4343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952880" y="6019920"/>
            <a:ext cx="914400" cy="485640"/>
          </a:xfrm>
          <a:prstGeom prst="rightArrow">
            <a:avLst>
              <a:gd name="adj1" fmla="val 50000"/>
              <a:gd name="adj2" fmla="val 4707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os nacionalis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-1945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295960" cy="3508560"/>
          </a:xfrm>
          <a:prstGeom prst="rect">
            <a:avLst/>
          </a:prstGeom>
          <a:ln w="0">
            <a:noFill/>
          </a:ln>
        </p:spPr>
      </p:pic>
      <p:pic>
        <p:nvPicPr>
          <p:cNvPr id="66" name="viva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057400" cy="105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3600" y="1600200"/>
            <a:ext cx="876240" cy="485640"/>
          </a:xfrm>
          <a:prstGeom prst="rightArrow">
            <a:avLst>
              <a:gd name="adj1" fmla="val 50000"/>
              <a:gd name="adj2" fmla="val 45107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66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frontpage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1990800" cy="273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panish_civil_war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057400" cy="1409760"/>
          </a:xfrm>
          <a:prstGeom prst="rect">
            <a:avLst/>
          </a:prstGeom>
          <a:ln w="0">
            <a:noFill/>
          </a:ln>
        </p:spPr>
      </p:pic>
      <p:pic>
        <p:nvPicPr>
          <p:cNvPr id="75" name="fascistpriests" descr="Spanish priests give the fascist salute"/>
          <p:cNvPicPr/>
          <p:nvPr/>
        </p:nvPicPr>
        <p:blipFill>
          <a:blip r:embed="rId2"/>
          <a:stretch/>
        </p:blipFill>
        <p:spPr>
          <a:xfrm>
            <a:off x="6796080" y="5410080"/>
            <a:ext cx="1890720" cy="13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7848720" y="2057400"/>
            <a:ext cx="914400" cy="485640"/>
          </a:xfrm>
          <a:prstGeom prst="rightArrow">
            <a:avLst>
              <a:gd name="adj1" fmla="val 50000"/>
              <a:gd name="adj2" fmla="val 4707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3505320"/>
            <a:ext cx="876600" cy="485640"/>
          </a:xfrm>
          <a:prstGeom prst="rightArrow">
            <a:avLst>
              <a:gd name="adj1" fmla="val 50000"/>
              <a:gd name="adj2" fmla="val 45126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5560"/>
            <a:ext cx="7467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izquierda (la Repúblic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clase obr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erecha (los nacionalista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igle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ejérc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os r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99"/>
                </a:solidFill>
                <a:latin typeface="Modern No. 20"/>
                <a:ea typeface="Times New Roman"/>
              </a:rPr>
              <a:t>¡¡Las dos Españas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batallas terri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81827c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248160" cy="3908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87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bombardeo de Guernic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(por los aleman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uernica" descr=""/>
          <p:cNvPicPr/>
          <p:nvPr/>
        </p:nvPicPr>
        <p:blipFill>
          <a:blip r:embed="rId1"/>
          <a:stretch/>
        </p:blipFill>
        <p:spPr>
          <a:xfrm>
            <a:off x="304920" y="2960640"/>
            <a:ext cx="8458200" cy="366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94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96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99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03520" y="1149480"/>
            <a:ext cx="573696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2:31:49Z</dcterms:created>
  <dc:creator>ASESOR TÉCNICO DEL MEC EN WELLINGTON</dc:creator>
  <dc:description/>
  <dc:language>en-US</dc:language>
  <cp:lastModifiedBy>Owner1</cp:lastModifiedBy>
  <dcterms:modified xsi:type="dcterms:W3CDTF">2008-09-07T08:18:25Z</dcterms:modified>
  <cp:revision>57</cp:revision>
  <dc:subject/>
  <dc:title>Slide 1</dc:title>
</cp:coreProperties>
</file>